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6697-A354-4AE4-A6E6-B9FDE853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9C1C-F664-4648-B316-995015B9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E9F2-5E83-4DF1-933E-289B1A8C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F40A-B982-4C4E-8055-B19DEEF9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C639-6059-4188-8235-7AFF880F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A79B-75FC-4539-8B56-ADE7EDBF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BB40-5045-416E-99FB-8D7561D5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CC89-4E54-4DA8-831E-F2567A73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7929-261D-4A30-B672-0487690C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4DA4-E78C-428A-A3A9-BCDCFF5D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40A9-EE76-4FC1-8356-22CAA91C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155A-7ABB-4D75-AB2E-CE99C5A7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3C8B-31E3-4B28-99B7-257797B4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19A8-DBCF-43AA-BCFF-371DDB49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FD1B-F362-4AC0-A4DF-F4806338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7914-2552-4D5D-A4C4-9B997C14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DC92-960C-4C6E-A135-B30721A0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F09A-E5FB-43A9-90F6-F6DED242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F52B-1B75-4FD9-B805-A3B941E4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9A8D-F04B-4E00-B8EC-CF489E81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9D4D-B2C4-4317-BB6D-689B7A27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CB5-F63B-409A-87CE-4A9FDAA2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BB14-447E-4266-A80E-AEC7E9B9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BDB6-6268-408D-87E2-2EB7C53E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A0E4-7E7C-410D-AE13-E317491727B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E312-898F-42A4-8237-6927042A7D2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Writing Goals/Objective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 effective communic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id teachers in developing learning strategies and activ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ourage thinking about assess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3200400" y="4419720"/>
            <a:ext cx="3124080" cy="2081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tating Criterion Level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iterion levels can be stated many different way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mber of items correc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centage of item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swered correct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etion within certain time lim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etion within certain degree of accura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sion of essential fea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5562720" y="2747880"/>
            <a:ext cx="2236680" cy="159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In summary…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als/objectives consist of the following component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ervable stud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teria/criterio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Examples of a Goal/Objectiv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nish I students will correctly use in written sentences pairs of subjects and regular -ar verbs in the present tense with 90% accuracy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grade science students will correctly explain all of the steps of the scientific method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Example of a Goal/Objectiv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grade geography students will identify the seven continents on an unlabeled map of the world with 100% accuracy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4046400" y="3809880"/>
            <a:ext cx="2583000" cy="1893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96720"/>
            <a:ext cx="86104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If you are asked to explain the difference between goals and objectives…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s –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Gene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tements stating in vague terms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, comprehe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derst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the behavior expected of a student at the end of an instructional period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example, the student                             will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50 states of                             the United Stat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5964120" y="3505320"/>
            <a:ext cx="2265480" cy="1778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39672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If you are asked to explain the difference between goals and objectives…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l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easurab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tements indicating the behavior expected of a student at the end of an instructional perio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on verbs are used because they are measurabl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 The student will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is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50 states of the United Stat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Writing Goals/Objective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s/objectives indicate the intent, end result, or competency desired in a student at the end of an instructional period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be written in terms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tud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havior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be written as clearly as possible so there’s no doubt what the lesson’s goal 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arts of a Goal/Objectiv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earn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tate as specifically as possible who the student i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bservable student behavio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action verb specifying the learning outc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riterion/Criter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level of proficiency to be performed as indicative of “mastery” of the behavior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earner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s of learners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grade science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grade geography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High school biology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High school Algebra I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inth grade English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Observable Student Behavior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havior has to be written in observable/measurable terms, using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erbs. Do NOT use verbs such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derst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r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omprehe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fer to the list of verbs in the handout about the cognitive taxonom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two or more evaluators observed a student’s performance, would they agree that he/she had demonstrated the learning outcom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Observable Student Behavior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nth grade English students will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rrectl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dentif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ll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ive parts of an ess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2886120" y="3352680"/>
            <a:ext cx="3514680" cy="3157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tating Criterion Level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terion level of acceptable performance specifies the level of achievement expected of the student to indicate “mastery” of the instructional objecti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nth grade English students will correctly identif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l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ive parts of an ess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 </dc:creator>
  <dc:description/>
  <dc:language>en-US</dc:language>
  <cp:lastModifiedBy>Karen Verkler</cp:lastModifiedBy>
  <cp:lastPrinted>2011-09-02T19:27:04Z</cp:lastPrinted>
  <dcterms:modified xsi:type="dcterms:W3CDTF">2013-09-04T18:21:43Z</dcterms:modified>
  <cp:revision>265</cp:revision>
  <dc:subject/>
  <dc:title>Slide 1</dc:title>
</cp:coreProperties>
</file>